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CE7-A6B2-4E10-B2CF-5C107C9F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DD7-83A5-4721-B905-B7DC1E22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02F-25D8-4603-8673-9607B0FB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805-7CED-42FF-8927-EA8BCE86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5D5-F70D-46C8-9CE3-82D82FC1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98A-CC1E-4A1C-AAE3-D320ACA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ED70-03FA-4B4C-94D0-E5DC37E1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7AF-1DD1-4ADD-B561-3937BF11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299-10A6-4382-9091-0AED936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67F-BD7E-479D-BFC2-B0ED08B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F759-5759-4ED5-A68F-B9C9D30E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24B-428F-44EB-BC57-E09694D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C9CD-EA9F-4B3F-B1A5-9F2DAD4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6180-C07E-4D3B-A3AE-A0F33D03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CCB-D75D-4912-9A7B-990E6713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349-AA3C-40A2-8236-ABEE4121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58B7-A5FC-4E25-9E2E-F8571462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128-908E-4F77-AA21-D7F6D447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A68-41E9-4B1F-A9F0-5997A94A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910-47B7-46D6-ACD5-D6971CF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6BB-B3EB-464B-B422-6B2366B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D43-4B49-43C1-B8D2-FD607FDE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E3A-1F51-474A-8EA8-E306A08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8D9-2E30-4FFD-9D3E-EF2FCD4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91B-B446-43BF-AD50-A5E8760F7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2B7A-9A8C-4865-88D8-69D13D836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0" y="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 Casa para la vent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200640"/>
            <a:ext cx="4581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or: Jeannette Pellegrin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0"/>
            <a:ext cx="4800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grande es muy magnifico. La casa 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 localizada en Ashland. Está en la calle Bellview hights. Cuesa $270,003.02. La casa tiene cinco gran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tres pequeã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ormitorios. Tiene tres cocinas. Tienen un tostador, una licuadora, una nevera, un horno, y un fregadero. Tiene cuatro baños. Tienen una bañera, un retrete, un gabinete de medicana, un espejo, una ducha, un grifo, y un tapón.  La Sala es muy impresionate. La casa tiene cinco salas. Tienen una sofá, una silla, una lampera, un estane de libros, un cuadros, una cortinas, y un televisión. La casa tiene un comedor. El comedor tiene una mesa y un mantel magnífico. La Garage tiene dos caras. La casa tiene una piscina, y yarda gran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00200" y="2057400"/>
            <a:ext cx="57913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52:24Z</dcterms:created>
  <dc:creator>pellegrinijea</dc:creator>
  <dc:description/>
  <dc:language>en-US</dc:language>
  <cp:lastModifiedBy>pellegrinijea</cp:lastModifiedBy>
  <dcterms:modified xsi:type="dcterms:W3CDTF">2012-05-22T17:12:38Z</dcterms:modified>
  <cp:revision>8</cp:revision>
  <dc:subject/>
  <dc:title>Slide 1</dc:title>
</cp:coreProperties>
</file>